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3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21.gif" ContentType="image/gif"/>
  <Override PartName="/ppt/media/image1.png" ContentType="image/png"/>
  <Override PartName="/ppt/media/image6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AF8-8870-4687-ACF5-9CDD88B1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86C-0272-4A64-9816-E531504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64C-4107-4BF0-9D37-B965DC7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632-7796-437C-9C78-F1B9E898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D384-FB51-4695-9BA4-AD72082A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2DF-0925-4018-8EEC-C2DC5493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DF9C-FFB9-4992-93C7-7BB0DB75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20C-7A64-458B-9FDB-BD16AF8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A8F-0E9E-4D8B-A3BB-90A41CF5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73C-1F10-474A-9E73-0D35B08E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04C0-A0F3-4D8B-95EA-514EB779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F91-B3AE-4709-A2F7-DD6364C4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C799-E16B-464D-93B4-E397F46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CD4E-CED4-4280-98D9-8357DE4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DCD4-BC17-4BFA-989E-4F4A91E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7E9-9D57-4E5F-80E6-782BC1E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9A5-8195-4145-8CE2-08D5A6C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FF08-2CAF-4FEA-8116-3B1CCC3A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C8F8-5FDD-427E-891E-C3F1FF5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903E-8F79-4526-BA72-7211F76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87DB-82A6-424C-95A6-C32E80A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7887-D8F0-46B0-9185-447BA3ED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258-DF52-43F0-BAA7-D01763DF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D0E7-4B44-484B-BA8F-D62660C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C8DB-8BAF-48B8-B4DC-8019D6C6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7A2B-3E2C-47E1-802B-EF026DA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8215-2ED5-41D2-A6A8-7BF174B3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DEDE-88D7-4AFB-AC46-9A481A40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7A83-E956-4C9C-A987-AC53A8CC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0B5B-BA06-461C-AB07-36FEAA1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B3C7-F045-4CBD-B83B-8D581491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4248-421F-4CEE-B846-0E49EF5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FE92-166C-4011-B199-B3340AE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7F3-72AD-4C62-909A-15F4135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29CD-BA96-4009-A987-05CED2D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3ECB-D0AB-4B46-B190-3435E68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834A-6310-455F-9F8E-42BDC8A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3F06-4BE6-4BD7-BBF4-F4FE0C0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6259-375F-4818-8CB5-9DFD843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F541-D76A-4D80-BC75-024396C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823B-846F-4BF3-AE9F-034AB0A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C240-E0AA-4135-B280-5AEB67EC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1619-B2B3-4171-84EC-0804B1D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A5AE-3427-4D67-AAF1-A8D100B0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5EC-22B2-4A16-A9F1-79638647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BBEC-7E54-43F6-B5B0-759148E1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1094-1EAD-4086-AF7A-4B030F1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39379-3CBD-4F0D-A913-12759C90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03481-D5DA-431F-96DE-4A64D5E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F1ED-B841-4E4A-BBC3-269A39E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516C-5201-4C91-B803-3642110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4655-D51C-4324-8C7D-F138AEBA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2430-29D7-40E3-A138-4407CF34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A512-82CA-4A4B-8D92-6B55C07D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336E-CB5A-45E4-9C19-AF172D7A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53D-96AD-422E-B27B-8502CB6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638CC-9535-4451-8E4B-955322C0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12158-B4EF-4712-B4FC-10B52F3E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4BB3-7AEA-4841-BFF9-77E080CE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77CF-F5C4-44C1-82E6-5B4CA52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D24F-B12C-4E9A-AF36-FD6CC1D0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4E979-597C-4822-BF59-FFC7D8D0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D481-C61A-4028-9ECD-6BCB2E6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854C-404B-425A-9897-E72743D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FF03-80F6-4C82-94CA-7BF0DD3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D028-39A2-42B7-9BE7-2CD9AE4C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F9E-3501-466E-80DD-52DBCC9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DA00-D1B1-41EA-9C08-B7D09DF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6C651-0D06-4348-BBE9-8B130D5B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26A9-EB07-4ED1-93D0-09E8CB8C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F2307-B4B7-4443-8082-286BC7D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AF19E-0D18-420E-9B56-782DA2A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B8CD-6A32-4542-B6FE-DA42AC4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6983D-09D8-4725-9DA4-DFAD0E25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DB69-7907-46E3-B0A6-42111003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2EA48-3C76-480D-BF30-0B56A01C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57F9-7A70-4CB2-8174-CB9B62B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2E6-909D-4B3A-BFB6-16F3D3F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6637D-6171-48CF-8128-8A36A1F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B159-4837-41A8-830D-BA26089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DCB3-7168-4051-8B3F-4B5E50A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7F47-CC15-4CA3-A093-3806CC2E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1EC0-1974-48F0-A56A-7765EDCE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CF50-B74E-459C-9264-9FC55229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64A50-360D-4ECB-8E0E-4F4B60BF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0FE5-5423-4A60-A285-FF4CCE05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C9ACB-DB1B-4499-BA4F-646EB421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1407-F5E7-461F-89B2-8C8C6AF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14E-D5A5-4691-9835-F228F32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67F48-353E-4EFD-8120-036E5973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3EE7-5098-40C4-92E0-CBB409A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A38B5-7A29-435C-8625-F3BE85D4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0603-A04C-4C7D-ABDB-1054806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675F-1C1D-4DE6-BFF7-E4C2502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6B8D-107D-42C9-809E-55A12F45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B64D3-BD1C-4466-AA11-41BECC10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BCEF-9A79-43DF-998C-F3C4B8646E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7294-DE98-41DC-A156-C0D71EC7AD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BFB0-CACF-4454-A639-F378978B72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C7A-90F7-4DB0-8B6A-7F8C37AA0C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D92-BEEF-483D-8385-FE6F935608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971-FAE4-418E-AD31-84529E8C3D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3185-1ED9-47CA-846A-3BE5F95B21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EE4-8972-458D-AFE4-E74DF4D7B6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SCIENTIFIC REVOLUTION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y tradition, the “Scientific Revolution” refers to historical changes in thought and belief, to changes in social &amp; institutional organization, that unfolded in Europe roughly 1550-1700; beginning with Copernicus and ending with Newt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(cont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fessor of Mathematics – showed error of Aristotle’s belief that speed of fall is proportional to weight by throwing different objects off of Leaning Tower.  Kicked out of the colleg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vis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escope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 (sold it as tool for naval operations and made a fortune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1613 tried to prove Copernicus right  by precise measurement not metaphysical principl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(cont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ad to stand trial at Rome (Inquisition)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sy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(anti-Christian to state earth not center of cosmos) – sentenced to life imprisonment and his work censo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’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Invention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79" name="Picture 4" descr="clock - pendulum (Gal)"/>
          <p:cNvPicPr/>
          <p:nvPr/>
        </p:nvPicPr>
        <p:blipFill>
          <a:blip r:embed="rId1"/>
          <a:stretch/>
        </p:blipFill>
        <p:spPr>
          <a:xfrm>
            <a:off x="0" y="0"/>
            <a:ext cx="2014560" cy="4343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sector1 - Galeleo"/>
          <p:cNvPicPr/>
          <p:nvPr/>
        </p:nvPicPr>
        <p:blipFill>
          <a:blip r:embed="rId2"/>
          <a:stretch/>
        </p:blipFill>
        <p:spPr>
          <a:xfrm>
            <a:off x="5981760" y="0"/>
            <a:ext cx="3162240" cy="177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thermoscope - Gal"/>
          <p:cNvPicPr/>
          <p:nvPr/>
        </p:nvPicPr>
        <p:blipFill>
          <a:blip r:embed="rId3"/>
          <a:stretch/>
        </p:blipFill>
        <p:spPr>
          <a:xfrm>
            <a:off x="1905120" y="1752480"/>
            <a:ext cx="1689120" cy="5105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3" descr="water pump - Gal"/>
          <p:cNvPicPr/>
          <p:nvPr/>
        </p:nvPicPr>
        <p:blipFill>
          <a:blip r:embed="rId4"/>
          <a:stretch/>
        </p:blipFill>
        <p:spPr>
          <a:xfrm>
            <a:off x="4114800" y="3429000"/>
            <a:ext cx="457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Keple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84" name="Picture 4" descr="portrait_kepler"/>
          <p:cNvPicPr/>
          <p:nvPr/>
        </p:nvPicPr>
        <p:blipFill>
          <a:blip r:embed="rId1"/>
          <a:stretch/>
        </p:blipFill>
        <p:spPr>
          <a:xfrm>
            <a:off x="334800" y="457200"/>
            <a:ext cx="4237200" cy="541008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5318280" y="1946160"/>
            <a:ext cx="329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lanets mov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liptical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not circular path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veloped an idea of “magnetic” force of sun pulling on planets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saac Newt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87" name="Picture 4" descr="newton1_med"/>
          <p:cNvPicPr/>
          <p:nvPr/>
        </p:nvPicPr>
        <p:blipFill>
          <a:blip r:embed="rId1"/>
          <a:stretch/>
        </p:blipFill>
        <p:spPr>
          <a:xfrm>
            <a:off x="5105520" y="1604880"/>
            <a:ext cx="2800080" cy="36482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365040" y="17938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Invented the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verse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” – one set of laws, one kind of space, one kind of time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822240" y="3733920"/>
            <a:ext cx="374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cs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– light rays are refracted or bent by other substances.  Created telescope that uses mirrors rather than lenses.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5244480" y="552600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re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ne way in which the contributions o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pernicus, Galileo, and Newton are similar i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at eac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1) challenged the heliocentric theory of th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iver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2) based his work on Enlightenment princip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f social contra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3) practiced observation and experimentation i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is wo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(4) supported the work of the Inquisi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vesald1"/>
          <p:cNvPicPr/>
          <p:nvPr/>
        </p:nvPicPr>
        <p:blipFill>
          <a:blip r:embed="rId1"/>
          <a:stretch/>
        </p:blipFill>
        <p:spPr>
          <a:xfrm>
            <a:off x="4800600" y="2514600"/>
            <a:ext cx="3522600" cy="3570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76176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Innovated professor of surgery – use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section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to study anatom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Discovered ancient Greek Galen had made over 200 errors in his anatomical studie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1541160" y="838080"/>
            <a:ext cx="63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Andreas Vesalius -</a:t>
            </a:r>
            <a:endParaRPr b="0" lang="en-US" sz="4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2895480" y="129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3f2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533c"/>
                </a:solidFill>
                <a:latin typeface="Impact"/>
              </a:rPr>
              <a:t>Medical Science</a:t>
            </a:r>
            <a:endParaRPr b="0" lang="en-US" sz="4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William Harvey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 Black"/>
              </a:rPr>
              <a:t>Discovered blood circulates through body and heart is pump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99" name="Picture 4" descr="j0234734"/>
          <p:cNvPicPr/>
          <p:nvPr/>
        </p:nvPicPr>
        <p:blipFill>
          <a:blip r:embed="rId1"/>
          <a:stretch/>
        </p:blipFill>
        <p:spPr>
          <a:xfrm>
            <a:off x="5791320" y="1295280"/>
            <a:ext cx="2276280" cy="2276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[Illustration of Blood Circulation]"/>
          <p:cNvPicPr/>
          <p:nvPr/>
        </p:nvPicPr>
        <p:blipFill>
          <a:blip r:embed="rId2"/>
          <a:stretch/>
        </p:blipFill>
        <p:spPr>
          <a:xfrm>
            <a:off x="4886280" y="4295880"/>
            <a:ext cx="3333960" cy="16192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1"/>
          <p:cNvSpPr/>
          <p:nvPr/>
        </p:nvSpPr>
        <p:spPr>
          <a:xfrm>
            <a:off x="-1295280" y="1828800"/>
            <a:ext cx="586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Botan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04" name="Picture 7" descr="Sempervivum tectorum"/>
          <p:cNvPicPr/>
          <p:nvPr/>
        </p:nvPicPr>
        <p:blipFill>
          <a:blip r:embed="rId1"/>
          <a:stretch/>
        </p:blipFill>
        <p:spPr>
          <a:xfrm>
            <a:off x="6248520" y="1143000"/>
            <a:ext cx="1888920" cy="53532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457200" y="1523880"/>
            <a:ext cx="54864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rolus Linnaeus –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(1707-1778). Swedish botanist and explorer.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First to frame principles for defining genera and species of organisms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ssified plants, animals, and even minerals.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 rot="20461200">
            <a:off x="914040" y="9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hemistr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07" name="Picture 11" descr="celsius_face"/>
          <p:cNvPicPr/>
          <p:nvPr/>
        </p:nvPicPr>
        <p:blipFill>
          <a:blip r:embed="rId1"/>
          <a:stretch/>
        </p:blipFill>
        <p:spPr>
          <a:xfrm>
            <a:off x="6062760" y="30492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airpump"/>
          <p:cNvPicPr/>
          <p:nvPr/>
        </p:nvPicPr>
        <p:blipFill>
          <a:blip r:embed="rId2"/>
          <a:stretch/>
        </p:blipFill>
        <p:spPr>
          <a:xfrm>
            <a:off x="0" y="0"/>
            <a:ext cx="3333600" cy="4762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0" y="482436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Robert Boyle’s Air Pump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yle’s La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volume of gas is inversely proportional to pressure.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572000" y="586728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siu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 Thermometer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wedish – 1701-1744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pic>
        <p:nvPicPr>
          <p:cNvPr id="411" name="Picture 8" descr="Celsius thermometer used by Linné"/>
          <p:cNvPicPr/>
          <p:nvPr/>
        </p:nvPicPr>
        <p:blipFill>
          <a:blip r:embed="rId3"/>
          <a:stretch/>
        </p:blipFill>
        <p:spPr>
          <a:xfrm rot="1542000">
            <a:off x="3200040" y="3657240"/>
            <a:ext cx="5943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istory of Scien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Medieval Peri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rolled by Church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 Text based knowledge – mainly ancient Greek text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mmercial Revolution: rise of wealthy merchant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r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esire more practical benefits of scienc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hurch weakened by Protestant Reformation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naissance Humanist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active life morally superior to contemplative life (i.e. don’t just think it – do it!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e of Scientific Institution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salons, “Royal Society, Oxford”  “Academie des Sciences de Paris”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413" name="Picture 12" descr="Joseph Priestly"/>
          <p:cNvPicPr/>
          <p:nvPr/>
        </p:nvPicPr>
        <p:blipFill>
          <a:blip r:embed="rId1"/>
          <a:stretch/>
        </p:blipFill>
        <p:spPr>
          <a:xfrm>
            <a:off x="0" y="3803760"/>
            <a:ext cx="2260440" cy="305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The Kite Experiment"/>
          <p:cNvPicPr/>
          <p:nvPr/>
        </p:nvPicPr>
        <p:blipFill>
          <a:blip r:embed="rId2"/>
          <a:stretch/>
        </p:blipFill>
        <p:spPr>
          <a:xfrm>
            <a:off x="162000" y="46080"/>
            <a:ext cx="4714920" cy="3476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bifocals"/>
          <p:cNvPicPr/>
          <p:nvPr/>
        </p:nvPicPr>
        <p:blipFill>
          <a:blip r:embed="rId3"/>
          <a:stretch/>
        </p:blipFill>
        <p:spPr>
          <a:xfrm>
            <a:off x="4572000" y="5092560"/>
            <a:ext cx="4572000" cy="1765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datesintro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2438280" y="3886200"/>
            <a:ext cx="23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seph Priestle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discovered Oxygen, carbonated beverages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5546880" y="3657600"/>
            <a:ext cx="359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njamin Franklin 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ature of electricity, bifocals, etc.</a:t>
            </a:r>
            <a:endParaRPr b="0" lang="en-US" sz="28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auses of Sci Revolu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estant Reforma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opened up scientific knowledge from the control of the Catholic Church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ercial Revolu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gave the money for invention of new scientific technolog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 of Exploration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– new need to invent telescope in order to get to new world faster – astronomy becomes the first area of scientific revolution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umanism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– new questioning spirit allowed for the drive to question previous scientific “truths”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cientific Metho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ncis Bac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– England, 1561-1626, believed truth is not derived from authority but as a fruit of experiment.  (very political, found guilt of bribery, published histories and legal codes – never popular.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ne Descart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– France, 1596-1650, believed to hold no truths until he proved it true.  “I think, therefore I am” (Cogito, ergo sum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5-Point Star 1"/>
          <p:cNvSpPr/>
          <p:nvPr/>
        </p:nvSpPr>
        <p:spPr>
          <a:xfrm>
            <a:off x="4876920" y="838080"/>
            <a:ext cx="761760" cy="609840"/>
          </a:xfrm>
          <a:custGeom>
            <a:avLst/>
            <a:gdLst/>
            <a:ahLst/>
            <a:rect l="l" t="t" r="r" b="b"/>
            <a:pathLst>
              <a:path w="762000" h="609600">
                <a:moveTo>
                  <a:pt x="1" y="232846"/>
                </a:moveTo>
                <a:lnTo>
                  <a:pt x="291060" y="232848"/>
                </a:lnTo>
                <a:lnTo>
                  <a:pt x="381000" y="0"/>
                </a:lnTo>
                <a:lnTo>
                  <a:pt x="470940" y="232848"/>
                </a:lnTo>
                <a:lnTo>
                  <a:pt x="761999" y="232846"/>
                </a:lnTo>
                <a:lnTo>
                  <a:pt x="526526" y="376752"/>
                </a:lnTo>
                <a:lnTo>
                  <a:pt x="616470" y="609598"/>
                </a:lnTo>
                <a:lnTo>
                  <a:pt x="381000" y="465690"/>
                </a:lnTo>
                <a:lnTo>
                  <a:pt x="145530" y="609598"/>
                </a:lnTo>
                <a:lnTo>
                  <a:pt x="235474" y="376752"/>
                </a:lnTo>
                <a:lnTo>
                  <a:pt x="1" y="232846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painting of universe and scholars"/>
          <p:cNvPicPr/>
          <p:nvPr/>
        </p:nvPicPr>
        <p:blipFill>
          <a:blip r:embed="rId1"/>
          <a:stretch/>
        </p:blipFill>
        <p:spPr>
          <a:xfrm>
            <a:off x="3581280" y="2362320"/>
            <a:ext cx="3640320" cy="32004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"/>
          <p:cNvSpPr/>
          <p:nvPr/>
        </p:nvSpPr>
        <p:spPr>
          <a:xfrm>
            <a:off x="1295280" y="13381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 of the Universe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0" name="Picture 4" descr="geocentric_cosmology"/>
          <p:cNvPicPr/>
          <p:nvPr/>
        </p:nvPicPr>
        <p:blipFill>
          <a:blip r:embed="rId1"/>
          <a:stretch/>
        </p:blipFill>
        <p:spPr>
          <a:xfrm>
            <a:off x="3657600" y="228600"/>
            <a:ext cx="5257800" cy="4529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228600" y="7621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Early System –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istotle’s 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Earth is Center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ocentric Model</a:t>
            </a: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34"/>
                </a:solidFill>
                <a:latin typeface="Arial"/>
              </a:rPr>
              <a:t>Church Approves.</a:t>
            </a:r>
            <a:endParaRPr b="0" lang="en-US" sz="36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odels of the Univers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Copernic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Galile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Kepl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Arial Black"/>
              </a:rPr>
              <a:t>Isaac Newt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64" name="Picture 4" descr="hevelius_telescope"/>
          <p:cNvPicPr/>
          <p:nvPr/>
        </p:nvPicPr>
        <p:blipFill>
          <a:blip r:embed="rId1"/>
          <a:stretch/>
        </p:blipFill>
        <p:spPr>
          <a:xfrm>
            <a:off x="5702400" y="1981080"/>
            <a:ext cx="1701720" cy="198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1640" y="37335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1956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pernicu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67" name="Picture 4" descr="Coppernicus_universe"/>
          <p:cNvPicPr/>
          <p:nvPr/>
        </p:nvPicPr>
        <p:blipFill>
          <a:blip r:embed="rId1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5867280" y="16765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(1473-1543) – Polish Astronom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Theory – sun is at rest near center of univers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Earth spins on its axis once dail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Earth revolves sun annually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eliocentric</a:t>
            </a:r>
            <a:r>
              <a:rPr b="0" lang="en-US" sz="2600" spc="-1" strike="noStrike">
                <a:solidFill>
                  <a:srgbClr val="292934"/>
                </a:solidFill>
                <a:latin typeface="Arial"/>
              </a:rPr>
              <a:t>” System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5-Point Star 1"/>
          <p:cNvSpPr/>
          <p:nvPr/>
        </p:nvSpPr>
        <p:spPr>
          <a:xfrm>
            <a:off x="7848720" y="5486400"/>
            <a:ext cx="838080" cy="83808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1" y="320163"/>
                </a:moveTo>
                <a:lnTo>
                  <a:pt x="320166" y="320165"/>
                </a:lnTo>
                <a:lnTo>
                  <a:pt x="419100" y="0"/>
                </a:lnTo>
                <a:lnTo>
                  <a:pt x="518034" y="320165"/>
                </a:lnTo>
                <a:lnTo>
                  <a:pt x="838199" y="320163"/>
                </a:lnTo>
                <a:lnTo>
                  <a:pt x="579179" y="518034"/>
                </a:lnTo>
                <a:lnTo>
                  <a:pt x="678117" y="838198"/>
                </a:lnTo>
                <a:lnTo>
                  <a:pt x="419100" y="640323"/>
                </a:lnTo>
                <a:lnTo>
                  <a:pt x="160083" y="838198"/>
                </a:lnTo>
                <a:lnTo>
                  <a:pt x="259021" y="518034"/>
                </a:lnTo>
                <a:lnTo>
                  <a:pt x="1" y="320163"/>
                </a:lnTo>
                <a:close/>
              </a:path>
            </a:pathLst>
          </a:custGeom>
          <a:solidFill>
            <a:srgbClr val="93a299"/>
          </a:solidFill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Galileo Galil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71" name="Picture 9" descr="Galileo's Telescope"/>
          <p:cNvPicPr/>
          <p:nvPr/>
        </p:nvPicPr>
        <p:blipFill>
          <a:blip r:embed="rId1"/>
          <a:stretch/>
        </p:blipFill>
        <p:spPr>
          <a:xfrm>
            <a:off x="793800" y="1673280"/>
            <a:ext cx="3365280" cy="4718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Galileo Portrait"/>
          <p:cNvPicPr/>
          <p:nvPr/>
        </p:nvPicPr>
        <p:blipFill>
          <a:blip r:embed="rId2"/>
          <a:stretch/>
        </p:blipFill>
        <p:spPr>
          <a:xfrm>
            <a:off x="4925880" y="1673280"/>
            <a:ext cx="3483000" cy="4718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0"/>
          <p:cNvSpPr/>
          <p:nvPr/>
        </p:nvSpPr>
        <p:spPr>
          <a:xfrm>
            <a:off x="5241960" y="61117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(1564-1642)</a:t>
            </a:r>
            <a:endParaRPr b="0" lang="en-US" sz="32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9:06:35Z</dcterms:created>
  <dc:creator>Anne Jean Lyons</dc:creator>
  <dc:description/>
  <dc:language>en-US</dc:language>
  <cp:lastModifiedBy>Windows User</cp:lastModifiedBy>
  <dcterms:modified xsi:type="dcterms:W3CDTF">2014-05-19T11:33:01Z</dcterms:modified>
  <cp:revision>26</cp:revision>
  <dc:subject/>
  <dc:title>Industrial Revolution</dc:title>
</cp:coreProperties>
</file>